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082-64FC-435F-878C-B6FC325C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AC5-8AEE-4B11-BCBD-1C763B8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E5D-B118-4A7C-ACBA-B7208E5D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8A7-1C36-4B4F-A980-BC8F165E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C17-4BAF-4D4A-BE66-8E48AA7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1AB-F502-425B-A33C-2F1A5AB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470-9D2F-4A1F-AE1D-535472D1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39F-47AA-4415-A59C-2708AABF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04A-EBA2-4E16-99FD-346C8D1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109-527F-47BC-8373-C4C5DFD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907-A618-447A-BFA2-6361415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675-F5FE-4796-AB94-32FE0561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875-28E7-4407-B2FB-FB7974F26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3080" y="73080"/>
            <a:ext cx="8818560" cy="6711840"/>
            <a:chOff x="73080" y="73080"/>
            <a:chExt cx="8818560" cy="6711840"/>
          </a:xfrm>
        </p:grpSpPr>
        <p:sp>
          <p:nvSpPr>
            <p:cNvPr id="42" name=""/>
            <p:cNvSpPr/>
            <p:nvPr/>
          </p:nvSpPr>
          <p:spPr>
            <a:xfrm>
              <a:off x="73080" y="73080"/>
              <a:ext cx="8818560" cy="67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8240" y="466560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38240" y="359712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38240" y="251460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38240" y="144792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8240" y="38088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38240" y="380880"/>
              <a:ext cx="1440" cy="535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9560" y="573264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9560" y="466560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9560" y="359712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9560" y="251460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9560" y="144792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79560" y="38088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38240" y="573264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03824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0672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7340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24008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30856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37524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44372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51076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25480" y="5629320"/>
            <a:ext cx="306360" cy="131760"/>
            <a:chOff x="1725480" y="5629320"/>
            <a:chExt cx="306360" cy="131760"/>
          </a:xfrm>
        </p:grpSpPr>
        <p:sp>
          <p:nvSpPr>
            <p:cNvPr id="24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944720" y="5600880"/>
            <a:ext cx="277920" cy="117360"/>
            <a:chOff x="1944720" y="5600880"/>
            <a:chExt cx="277920" cy="117360"/>
          </a:xfrm>
        </p:grpSpPr>
        <p:sp>
          <p:nvSpPr>
            <p:cNvPr id="44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5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49560" y="5454720"/>
            <a:ext cx="277560" cy="233280"/>
            <a:chOff x="2149560" y="5454720"/>
            <a:chExt cx="277560" cy="233280"/>
          </a:xfrm>
        </p:grpSpPr>
        <p:sp>
          <p:nvSpPr>
            <p:cNvPr id="645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6692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340000" y="5351400"/>
            <a:ext cx="249120" cy="190440"/>
            <a:chOff x="2340000" y="5351400"/>
            <a:chExt cx="249120" cy="190440"/>
          </a:xfrm>
        </p:grpSpPr>
        <p:sp>
          <p:nvSpPr>
            <p:cNvPr id="84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500200" y="5191200"/>
            <a:ext cx="249480" cy="249120"/>
            <a:chOff x="2500200" y="5191200"/>
            <a:chExt cx="249480" cy="249120"/>
          </a:xfrm>
        </p:grpSpPr>
        <p:sp>
          <p:nvSpPr>
            <p:cNvPr id="1047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03520" y="527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179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31960" y="5205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662200" y="4986360"/>
            <a:ext cx="247680" cy="291960"/>
            <a:chOff x="2662200" y="4986360"/>
            <a:chExt cx="247680" cy="291960"/>
          </a:xfrm>
        </p:grpSpPr>
        <p:sp>
          <p:nvSpPr>
            <p:cNvPr id="124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2822400" y="4738680"/>
            <a:ext cx="292320" cy="334800"/>
            <a:chOff x="2822400" y="4738680"/>
            <a:chExt cx="292320" cy="334800"/>
          </a:xfrm>
        </p:grpSpPr>
        <p:sp>
          <p:nvSpPr>
            <p:cNvPr id="144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368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027240" y="4371840"/>
            <a:ext cx="322560" cy="454320"/>
            <a:chOff x="3027240" y="4371840"/>
            <a:chExt cx="322560" cy="454320"/>
          </a:xfrm>
        </p:grpSpPr>
        <p:sp>
          <p:nvSpPr>
            <p:cNvPr id="1650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0272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41640" y="470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159000" y="4576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01840" y="444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18040" y="443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0880" y="440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3260880" y="4079880"/>
            <a:ext cx="395280" cy="380880"/>
            <a:chOff x="3260880" y="4079880"/>
            <a:chExt cx="395280" cy="380880"/>
          </a:xfrm>
        </p:grpSpPr>
        <p:sp>
          <p:nvSpPr>
            <p:cNvPr id="1851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686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3568680" y="3714840"/>
            <a:ext cx="716040" cy="438120"/>
            <a:chOff x="3568680" y="3714840"/>
            <a:chExt cx="716040" cy="438120"/>
          </a:xfrm>
        </p:grpSpPr>
        <p:sp>
          <p:nvSpPr>
            <p:cNvPr id="2052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627360" y="402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417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656160" y="3978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656160" y="396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670200" y="39625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0044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576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01960" y="3875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83220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4812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0654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10120" y="377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385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5296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67360" y="371484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4197240" y="3479760"/>
            <a:ext cx="1739880" cy="322200"/>
            <a:chOff x="4197240" y="3479760"/>
            <a:chExt cx="1739880" cy="322200"/>
          </a:xfrm>
        </p:grpSpPr>
        <p:sp>
          <p:nvSpPr>
            <p:cNvPr id="2253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164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703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3290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0880" y="36561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7516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503600" y="362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482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626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2132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6800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0844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8152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9736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8117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840200" y="35830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7044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943520" y="356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9435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579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71960" y="355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306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0450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0752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1768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0524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2144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3548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498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6428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80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08560" y="35100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35320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3960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2592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1340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52780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58648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3076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65956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038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3264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668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625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536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500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1155600" y="3451320"/>
            <a:ext cx="5469120" cy="2309760"/>
            <a:chOff x="1155600" y="3451320"/>
            <a:chExt cx="5469120" cy="2309760"/>
          </a:xfrm>
        </p:grpSpPr>
        <p:sp>
          <p:nvSpPr>
            <p:cNvPr id="2454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784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371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9616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5484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1135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15636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81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375240" y="34513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2430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3017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330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506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1725480" y="5673600"/>
            <a:ext cx="292320" cy="73080"/>
            <a:chOff x="1725480" y="5673600"/>
            <a:chExt cx="292320" cy="73080"/>
          </a:xfrm>
        </p:grpSpPr>
        <p:sp>
          <p:nvSpPr>
            <p:cNvPr id="265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944720" y="5659560"/>
            <a:ext cx="263520" cy="87120"/>
            <a:chOff x="1944720" y="5659560"/>
            <a:chExt cx="263520" cy="87120"/>
          </a:xfrm>
        </p:grpSpPr>
        <p:sp>
          <p:nvSpPr>
            <p:cNvPr id="285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2149560" y="5527800"/>
            <a:ext cx="263520" cy="204840"/>
            <a:chOff x="2149560" y="5527800"/>
            <a:chExt cx="263520" cy="204840"/>
          </a:xfrm>
        </p:grpSpPr>
        <p:sp>
          <p:nvSpPr>
            <p:cNvPr id="3057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2340000" y="5381640"/>
            <a:ext cx="233280" cy="219240"/>
            <a:chOff x="2340000" y="5381640"/>
            <a:chExt cx="233280" cy="219240"/>
          </a:xfrm>
        </p:grpSpPr>
        <p:sp>
          <p:nvSpPr>
            <p:cNvPr id="325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354400" y="5527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8" name=""/>
          <p:cNvGrpSpPr/>
          <p:nvPr/>
        </p:nvGrpSpPr>
        <p:grpSpPr>
          <a:xfrm>
            <a:off x="2500200" y="5176800"/>
            <a:ext cx="235080" cy="277920"/>
            <a:chOff x="2500200" y="5176800"/>
            <a:chExt cx="235080" cy="277920"/>
          </a:xfrm>
        </p:grpSpPr>
        <p:sp>
          <p:nvSpPr>
            <p:cNvPr id="345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514600" y="53816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55888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31960" y="523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31960" y="5205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662200" y="4898880"/>
            <a:ext cx="233280" cy="351000"/>
            <a:chOff x="2662200" y="4898880"/>
            <a:chExt cx="233280" cy="351000"/>
          </a:xfrm>
        </p:grpSpPr>
        <p:sp>
          <p:nvSpPr>
            <p:cNvPr id="366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90640" y="511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637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822400" y="4489560"/>
            <a:ext cx="277920" cy="482400"/>
            <a:chOff x="2822400" y="4489560"/>
            <a:chExt cx="277920" cy="482400"/>
          </a:xfrm>
        </p:grpSpPr>
        <p:sp>
          <p:nvSpPr>
            <p:cNvPr id="3861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851200" y="484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895480" y="479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9098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909880" y="475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42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924280" y="468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02724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"/>
          <p:cNvGrpSpPr/>
          <p:nvPr/>
        </p:nvGrpSpPr>
        <p:grpSpPr>
          <a:xfrm>
            <a:off x="3027240" y="3992400"/>
            <a:ext cx="306360" cy="555840"/>
            <a:chOff x="3027240" y="3992400"/>
            <a:chExt cx="306360" cy="555840"/>
          </a:xfrm>
        </p:grpSpPr>
        <p:sp>
          <p:nvSpPr>
            <p:cNvPr id="4062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071880" y="434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78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201840" y="412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218040" y="4108320"/>
              <a:ext cx="7272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218040" y="407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260880" y="4021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3260880" y="3363840"/>
            <a:ext cx="380880" cy="687600"/>
            <a:chOff x="3260880" y="3363840"/>
            <a:chExt cx="380880" cy="687600"/>
          </a:xfrm>
        </p:grpSpPr>
        <p:sp>
          <p:nvSpPr>
            <p:cNvPr id="4263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3051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3360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349800" y="3773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451320" y="358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479760" y="352440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79760" y="3495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538440" y="342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538440" y="340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5686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3568680" y="2382840"/>
            <a:ext cx="701640" cy="1039680"/>
            <a:chOff x="3568680" y="2382840"/>
            <a:chExt cx="701640" cy="1039680"/>
          </a:xfrm>
        </p:grpSpPr>
        <p:sp>
          <p:nvSpPr>
            <p:cNvPr id="4464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656160" y="3218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70200" y="320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670200" y="317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6702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70044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700440" y="308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7004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7148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714840" y="304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371484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372888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757680" y="2968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87920" y="292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87920" y="290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801960" y="290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3816360" y="288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81636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38606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8750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8750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90528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905280" y="276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9481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962520" y="2719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99240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992400" y="267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021200" y="264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037040" y="260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065480" y="255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11012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110120" y="248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11012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12416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124160" y="244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1385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1529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16736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197240" y="239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4197240" y="1170000"/>
            <a:ext cx="1725840" cy="1287360"/>
            <a:chOff x="4197240" y="1170000"/>
            <a:chExt cx="1725840" cy="1287360"/>
          </a:xfrm>
        </p:grpSpPr>
        <p:sp>
          <p:nvSpPr>
            <p:cNvPr id="4665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226040" y="235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255920" y="234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270320" y="228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299120" y="226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329000" y="225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8768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387680" y="219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30880" y="217980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444920" y="216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44920" y="2149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4607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4751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4895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50360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548240" y="203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562640" y="200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576680" y="198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57668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60692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069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6213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649760" y="194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665600" y="191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80000" y="188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70844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8152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79736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811760" y="184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826160" y="1843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826160" y="182736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8402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85460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87044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89888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8988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9132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943520" y="175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943520" y="173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957920" y="173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9719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9863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986360" y="1711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5016600" y="166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50306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0450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045040" y="16225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075280" y="159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089680" y="1593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5103720" y="1579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51037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132520" y="154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132520" y="153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148360" y="153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176800" y="150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205240" y="147636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221440" y="1476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235480" y="146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24988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264280" y="1447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28012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3085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322960" y="1419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33700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337000" y="13892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353200" y="1374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25920" y="136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454720" y="1344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45472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51340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52780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554184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558648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561492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5614920" y="12574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6307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6595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567360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5673600" y="121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673600" y="119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688000" y="1198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8000" y="11844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570384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573264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74668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76252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80536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85000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1155600" y="1009800"/>
            <a:ext cx="5454720" cy="4767120"/>
            <a:chOff x="1155600" y="1009800"/>
            <a:chExt cx="5454720" cy="4767120"/>
          </a:xfrm>
        </p:grpSpPr>
        <p:sp>
          <p:nvSpPr>
            <p:cNvPr id="4866" name=""/>
            <p:cNvSpPr/>
            <p:nvPr/>
          </p:nvSpPr>
          <p:spPr>
            <a:xfrm>
              <a:off x="586440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5864400" y="1155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878440" y="115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937120" y="11415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996160" y="1111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010200" y="111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0102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05484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11352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15636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215040" y="105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2150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28812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3752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375240" y="102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6375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1725480" y="5673600"/>
            <a:ext cx="306360" cy="87480"/>
            <a:chOff x="1725480" y="5673600"/>
            <a:chExt cx="306360" cy="87480"/>
          </a:xfrm>
        </p:grpSpPr>
        <p:sp>
          <p:nvSpPr>
            <p:cNvPr id="506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7" name=""/>
          <p:cNvGrpSpPr/>
          <p:nvPr/>
        </p:nvGrpSpPr>
        <p:grpSpPr>
          <a:xfrm>
            <a:off x="1944720" y="5673600"/>
            <a:ext cx="277920" cy="87480"/>
            <a:chOff x="1944720" y="5673600"/>
            <a:chExt cx="277920" cy="87480"/>
          </a:xfrm>
        </p:grpSpPr>
        <p:sp>
          <p:nvSpPr>
            <p:cNvPr id="526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2149560" y="5659560"/>
            <a:ext cx="277560" cy="101520"/>
            <a:chOff x="2149560" y="5659560"/>
            <a:chExt cx="277560" cy="101520"/>
          </a:xfrm>
        </p:grpSpPr>
        <p:sp>
          <p:nvSpPr>
            <p:cNvPr id="5469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2340000" y="5645160"/>
            <a:ext cx="249120" cy="101520"/>
            <a:chOff x="2340000" y="5645160"/>
            <a:chExt cx="249120" cy="101520"/>
          </a:xfrm>
        </p:grpSpPr>
        <p:sp>
          <p:nvSpPr>
            <p:cNvPr id="567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0" name=""/>
          <p:cNvGrpSpPr/>
          <p:nvPr/>
        </p:nvGrpSpPr>
        <p:grpSpPr>
          <a:xfrm>
            <a:off x="2500200" y="5645160"/>
            <a:ext cx="249480" cy="87480"/>
            <a:chOff x="2500200" y="5645160"/>
            <a:chExt cx="249480" cy="87480"/>
          </a:xfrm>
        </p:grpSpPr>
        <p:sp>
          <p:nvSpPr>
            <p:cNvPr id="587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1" name=""/>
          <p:cNvGrpSpPr/>
          <p:nvPr/>
        </p:nvGrpSpPr>
        <p:grpSpPr>
          <a:xfrm>
            <a:off x="2662200" y="5645160"/>
            <a:ext cx="247680" cy="87480"/>
            <a:chOff x="2662200" y="5645160"/>
            <a:chExt cx="247680" cy="87480"/>
          </a:xfrm>
        </p:grpSpPr>
        <p:sp>
          <p:nvSpPr>
            <p:cNvPr id="607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2" name=""/>
          <p:cNvGrpSpPr/>
          <p:nvPr/>
        </p:nvGrpSpPr>
        <p:grpSpPr>
          <a:xfrm>
            <a:off x="2822400" y="5645160"/>
            <a:ext cx="292320" cy="87480"/>
            <a:chOff x="2822400" y="5645160"/>
            <a:chExt cx="292320" cy="87480"/>
          </a:xfrm>
        </p:grpSpPr>
        <p:sp>
          <p:nvSpPr>
            <p:cNvPr id="627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3" name=""/>
          <p:cNvGrpSpPr/>
          <p:nvPr/>
        </p:nvGrpSpPr>
        <p:grpSpPr>
          <a:xfrm>
            <a:off x="3027240" y="5645160"/>
            <a:ext cx="322560" cy="87480"/>
            <a:chOff x="3027240" y="5645160"/>
            <a:chExt cx="322560" cy="87480"/>
          </a:xfrm>
        </p:grpSpPr>
        <p:sp>
          <p:nvSpPr>
            <p:cNvPr id="6474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4" name=""/>
          <p:cNvGrpSpPr/>
          <p:nvPr/>
        </p:nvGrpSpPr>
        <p:grpSpPr>
          <a:xfrm>
            <a:off x="3260880" y="5629320"/>
            <a:ext cx="395280" cy="103320"/>
            <a:chOff x="3260880" y="5629320"/>
            <a:chExt cx="395280" cy="103320"/>
          </a:xfrm>
        </p:grpSpPr>
        <p:sp>
          <p:nvSpPr>
            <p:cNvPr id="667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5" name=""/>
          <p:cNvGrpSpPr/>
          <p:nvPr/>
        </p:nvGrpSpPr>
        <p:grpSpPr>
          <a:xfrm>
            <a:off x="3568680" y="5614920"/>
            <a:ext cx="716040" cy="103320"/>
            <a:chOff x="3568680" y="5614920"/>
            <a:chExt cx="716040" cy="103320"/>
          </a:xfrm>
        </p:grpSpPr>
        <p:sp>
          <p:nvSpPr>
            <p:cNvPr id="6876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38322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39481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4152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416736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6" name=""/>
          <p:cNvGrpSpPr/>
          <p:nvPr/>
        </p:nvGrpSpPr>
        <p:grpSpPr>
          <a:xfrm>
            <a:off x="4197240" y="5556240"/>
            <a:ext cx="1739880" cy="147600"/>
            <a:chOff x="4197240" y="5556240"/>
            <a:chExt cx="1739880" cy="147600"/>
          </a:xfrm>
        </p:grpSpPr>
        <p:sp>
          <p:nvSpPr>
            <p:cNvPr id="7077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43290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4430880" y="560088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50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5626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462132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6800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470844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7815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7973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48117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48402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8704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49579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497196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50306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50752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513252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513252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51768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520524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52214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523548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524988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526428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528012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53085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3532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54259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551340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55278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558648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56307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570384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573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574668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57625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58053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8500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7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>
            <a:off x="58784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593712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605484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61135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615636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>
            <a:off x="62881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788760" y="5614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788760" y="45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686520" y="3479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>
            <a:off x="686520" y="2398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>
            <a:off x="686520" y="1330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>
            <a:off x="686520" y="263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993240" y="589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195840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>
            <a:off x="302652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409356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>
            <a:off x="516168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>
            <a:off x="616968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723816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>
            <a:off x="830484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4226400" y="625968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[D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 rot="16200000">
            <a:off x="-1468800" y="3123720"/>
            <a:ext cx="37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False Positive Rat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/>
          <p:nvPr/>
        </p:nvSpPr>
        <p:spPr>
          <a:xfrm>
            <a:off x="4386960" y="520524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>
            <a:off x="4474080" y="5205240"/>
            <a:ext cx="32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Target Library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4401360" y="384660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>
            <a:off x="4488480" y="3846600"/>
            <a:ext cx="28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PubChem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>
            <a:off x="4386960" y="60012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/>
          <p:nvPr/>
        </p:nvSpPr>
        <p:spPr>
          <a:xfrm>
            <a:off x="4474440" y="600120"/>
            <a:ext cx="298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w/o databas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er Fiehn</cp:lastModifiedBy>
  <dcterms:modified xsi:type="dcterms:W3CDTF">2006-12-07T22:35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